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1A33FD6-61BC-4192-8C55-0E86307F5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AAEBE66-46C5-4F75-B4AB-7B3B8031E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C2A3-9DCF-492F-B01B-C445C45AD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9764B-64A8-4444-9BE9-DD1819A2A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4950-987D-458F-8438-5AF1EC88D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A26A1-E5AA-4EFA-A2BF-7D8F7A45D1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7008A-B4B3-4E36-9FCF-AA0ED2E021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3F3BB-4BE6-457C-BD49-ABFE3E4EEA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203AC-EEDD-4C34-953E-E56470C660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B8837-8C3F-432F-AF7E-247661AC43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686C8-12F8-4338-9E8D-AFEA96A661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2F7C3-3774-4114-A2EE-9136613F67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EF408-934E-4098-8259-98CD93D085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617A-CFE4-4AAF-A571-2D2D34B40D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93B90-E51D-4E6D-AAD1-2169A7E418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CF333-211E-4DE7-B1BC-8A2845DBC7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EEFF3-CBFE-4B60-AD36-4F62FA6BC5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7FB16-4A13-4935-82FE-6B5D3ACDEA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8C242-2C40-414F-A22A-562662F805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758A-E258-45AF-97EA-63240EE9C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81CF-E415-418E-8A41-3F6723747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B6555-DC93-4D14-8380-C63645074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5AC52-89F5-46F8-80FB-A05F07778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E4A08-CFD5-47B6-8862-4FE99F4307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766C6-3449-4C31-A639-4E177D205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4375B-6067-4010-B048-2AB037A8A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7610760" y="6458040"/>
            <a:ext cx="14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038480" y="6244920"/>
            <a:ext cx="106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95A9-3957-40E5-AAA5-FE74DF9BB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7924320" y="650700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4190760" y="624492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AECB-D6A9-4359-9901-76B7D01CF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usac.org/sl/applicants/step06/on-premise-priority1-equipment.aspx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9"/>
          <p:cNvSpPr/>
          <p:nvPr/>
        </p:nvSpPr>
        <p:spPr>
          <a:xfrm>
            <a:off x="1371600" y="16765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 Eligible Servic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ing You Succ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and Libraries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228600" y="5791320"/>
            <a:ext cx="8534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hington, DC • Newark • Atlanta • Chicago • Orlando • Los Angeles • Portland • Houst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/Octo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293A-2CDD-4C08-AB31-FD69D5134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connected Vo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sed VoIP or PBX equipment are NOT eligible for Priority One fun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removing the VoIP or PBX equipment, the local voice network will cease to function.  This equipment is eligible ONLY as Internal Conn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On-Prem P1 Single demarc VoIP p1p2"/>
          <p:cNvPicPr/>
          <p:nvPr/>
        </p:nvPicPr>
        <p:blipFill>
          <a:blip r:embed="rId1"/>
          <a:stretch/>
        </p:blipFill>
        <p:spPr>
          <a:xfrm>
            <a:off x="762120" y="2362320"/>
            <a:ext cx="746748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connected Vo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560" y="1218960"/>
            <a:ext cx="830556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ultipurpose leased router may be eligible for Priority One funding if, as seen in this example, the internal data and voice network functions without dependence on the leased rou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13DE-E9FA-4437-88C6-5AB480898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Content Placeholder 8" descr="Data and Voice On-Prem P1 Single demarc VoIP w router eligible.jpg"/>
          <p:cNvPicPr/>
          <p:nvPr/>
        </p:nvPicPr>
        <p:blipFill>
          <a:blip r:embed="rId1"/>
          <a:stretch/>
        </p:blipFill>
        <p:spPr>
          <a:xfrm>
            <a:off x="457200" y="2382840"/>
            <a:ext cx="830592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6840" y="12189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ateway may be leased with eligible Priority One VoIP ser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ateway is considered a single basic terminating de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VoIP Gateway Multi Demarc"/>
          <p:cNvPicPr/>
          <p:nvPr/>
        </p:nvPicPr>
        <p:blipFill>
          <a:blip r:embed="rId1"/>
          <a:stretch/>
        </p:blipFill>
        <p:spPr>
          <a:xfrm>
            <a:off x="685800" y="2057400"/>
            <a:ext cx="7391520" cy="40813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connected Vo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9745-24D7-478C-9667-6B458540F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477A-C916-44AB-9C50-B0B3E3374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connected Vo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y Tw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y hardware and O/S software are eligible for fu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licenses critical for the functioning of the IP telephone devices are elig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-user devices are not eligible such as IP phones and Softph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 Ho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191120" y="6245280"/>
            <a:ext cx="106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662F-EB6D-4DEA-ADF2-85C280ED6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 Ho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 means for a school or library to display content on the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sion of web site traffic (bandwid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sion of disk space for storing applicant provided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sion of File Transfer Protocol (FTP) transfer or a Web interface to upload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3CDD-3EA2-42E6-B575-31B4FD997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 Ho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ligible features/t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Cre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ance/Grad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t 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Lo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B33B-FAFF-474A-968A-4F2A34763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 Ho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FY2009 and forward, password protected pages are Elig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your vendor to find out their eligibility percentage if it is not listed in their b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ncrease the chance of a quicker PIA review, show that the ineligibles are removed in your Item 21 attachme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BF6A-379F-4ADD-88C3-9C2B48602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8"/>
          <p:cNvSpPr/>
          <p:nvPr/>
        </p:nvSpPr>
        <p:spPr>
          <a:xfrm>
            <a:off x="4191120" y="6245280"/>
            <a:ext cx="106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95BC-FD32-4FB3-9C4D-7DC73CBCD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sic Maintenance of Internal Connectio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Priority Tw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6BB9-22F8-4738-A91B-5F71C5B87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Maintenance of 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s the necessary and continued operation of eligible internal connection components at eligible lo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MIC is a Recurring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 must be within July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June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MIC is exempt from the Two-in-Five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0341-31C9-4E60-A75B-388AA5CFE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Premise Equipment as Priority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connected Vo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Ho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Maintenance of Internal Connections (BM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Maintenance of 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gible BMIC task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air and Upkeep of eligibl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-Fi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on of O/S patches and security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 and Cable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-Fix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Technic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ing vendor to diagnose and solve hardware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new equipment is added and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rdware needs to be reconfig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BC02-82E1-4B81-969E-F947B95BE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Maintenance of 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ligible BMIC task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support for an end-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udent calling the vendor to reset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 Hour network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on-site technical support (i.e. contractor duty station at the applican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esigning the network to achieve maximum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F313-55BA-448E-8D3B-565AA4A4C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9A15-8567-4A54-87F4-D64D83E79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7988-16EF-4DA5-9C95-E95C09774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-Premise Priority 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y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pment located on the applicant’s premise are presumed to be Internal Conn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this presumption can be rebutted under certain conditions as part of an end-to-end Priority One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SAC website goes into great detail as to each of the </a:t>
            </a:r>
            <a:r>
              <a:rPr b="0" lang="en-US" sz="2800" spc="-1" strike="noStrike" u="sng">
                <a:solidFill>
                  <a:srgbClr val="2a56b2"/>
                </a:solidFill>
                <a:uFillTx/>
                <a:latin typeface="Arial"/>
                <a:hlinkClick r:id="rId1"/>
              </a:rPr>
              <a:t>On-Premise Priority One Equip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A161-9040-43FF-8235-40A339762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-Premise Equipment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eased router may be eligible for P1 funding if all conditions are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demarcation – If the router is removed, the LAN would continue to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On-Prem P1 service.jpg"/>
          <p:cNvPicPr/>
          <p:nvPr/>
        </p:nvPicPr>
        <p:blipFill>
          <a:blip r:embed="rId1"/>
          <a:stretch/>
        </p:blipFill>
        <p:spPr>
          <a:xfrm>
            <a:off x="457200" y="2514600"/>
            <a:ext cx="8001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E46D-FB25-4C14-8335-D13322269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-Premise Equipment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04920" y="1066680"/>
            <a:ext cx="838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eased router is NOT eligible for P1 fu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demarcations – If the router is removed, the LAN would cease to function which violates program rules for Priority One eligibility.  Router may be eligible in 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On-Prem P1 Multi demarc.jpg"/>
          <p:cNvPicPr/>
          <p:nvPr/>
        </p:nvPicPr>
        <p:blipFill>
          <a:blip r:embed="rId1"/>
          <a:stretch/>
        </p:blipFill>
        <p:spPr>
          <a:xfrm>
            <a:off x="457200" y="2514600"/>
            <a:ext cx="7924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connected Vo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140A-F67D-44F3-A30C-7F74B023F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connected Vo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connected VoIP is defined as a servic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s real-time, two-way voice commun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a broadband connection from the user’s lo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D3A6-1FA5-465B-8F20-466DFF89D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connected Vo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Internet protocol-compatible customer premises equipment (CP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s users generally to receive calls that originate on the public switched telephone network and to terminate calls to the public switched telephone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D363-D184-44BC-9963-7B9D31C46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connected Vo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y On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applied for in either Telecommunications or Internet Access on Form 47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C highly recommends posting in both Telecom and Internet Ac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22:02:20Z</dcterms:created>
  <dc:creator>rreynolds</dc:creator>
  <dc:description/>
  <dc:language>en-US</dc:language>
  <cp:lastModifiedBy>Eflock</cp:lastModifiedBy>
  <dcterms:modified xsi:type="dcterms:W3CDTF">2009-09-18T16:29:35Z</dcterms:modified>
  <cp:revision>154</cp:revision>
  <dc:subject/>
  <dc:title>Slide 1</dc:title>
</cp:coreProperties>
</file>